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jpeg" ContentType="image/jpeg"/>
  <Override PartName="/ppt/media/image9.jpeg" ContentType="image/jpeg"/>
  <Override PartName="/ppt/media/image1.jpeg" ContentType="image/jpeg"/>
  <Override PartName="/ppt/media/image15.wmf" ContentType="image/x-wmf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5FBE-DE1E-44F2-8939-74DEB3D8316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E566-FB21-43D5-A980-1A4BA32AEDFE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5F9-BB9A-488C-AEF0-FF7C559D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AFE-F947-4EF6-8BEE-D5B9A9F7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E1C-1913-449D-9707-7B7184DC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797-C927-4801-A4FB-90B89DCA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4359-746D-4037-946F-E0A14F00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F45B-7F53-48B7-92C6-CAA036EA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C00D-3D7E-4F4F-8A04-ACEBA60F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0AEE-32BF-4998-89B5-47107C30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231D-CAAD-4F35-BFCF-E4476ABC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6423-162F-4132-98A8-7D5C4589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45A1-B31E-4637-AF9B-67AC6CEF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0E3-D427-4BD4-A5E1-84A8C9B6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FDBF-B06F-43AE-A39B-56C42078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EF35-2740-4277-8553-FE003C3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657C-5E89-44CF-A581-19B01D2E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040E-F2E9-48B2-B7DC-9EBF0787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2EEE-88D4-4DA3-A9AE-9657189E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A79B-140A-4E43-97A6-6C8CB1D9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FF59-B19F-4C3D-9BCC-355115A9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B8B4-E3BE-4C05-8F16-88475830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8DCB-BA23-4CE7-844B-6EEA8ED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58B5-B03E-4386-AA18-D07F176D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46B-F7E9-4566-B9A6-079D66AF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BC95-F4A2-489F-9D64-F4287DD3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0424-E3A9-428E-84F7-63E1A42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F826-713F-43DC-8B44-5BD8E33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B2B8-8F7B-4DBE-8203-B93A958F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139B-1E54-487E-B183-7BC565C2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F56A-5B79-41C5-ACBC-B69CBD10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8881-2E72-4725-AA65-4C26BB3B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B2067-91C8-444F-9476-E8FBD821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5806-90D4-4511-99E0-4B79D35A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2026-9416-4606-A067-A557133D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846-7249-4F9A-BB66-6F765695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A842-9B61-4DA3-A0F6-A929D5BD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C5D0-2D6B-478F-9DCF-3CB57F07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21E9-9885-43AB-9A06-FDC01605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ABE2B-93EE-47BF-8B19-5F1E2C4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A6B44-8FA3-44FF-A178-BED8F0FC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5FDDD-C1E4-4D18-9F80-B2C9A5DC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C4F4-549E-4DE2-89C3-4FB9E81D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6FB76-E8F4-42F8-84EB-0B6F740F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B7A4-D090-482C-B128-DBADF87E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BA3CF-DC30-4211-B068-9EBB25F6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B33-588B-497D-8BAC-5CED11C5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97534-3973-42CB-A9E7-B6DD9FDE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37283-401D-475B-B0F6-A24C7DF9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DE33-BC19-4C0B-B36C-CD7B81D5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BE006-507D-4CD9-BFF3-635740BD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D6AC-9708-49C0-AC52-A65030C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1E1CC-E6D2-419D-B2C7-D3A586B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EEE8A-D75C-431F-9E16-554E003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3E801-4753-4497-8BFE-FD0B1289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413E1-D357-47BA-8B09-B679CC4C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C45AC-AFE6-4A78-A120-473A3DC6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01A-2ACA-45D2-895D-552F0364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696A-712B-4C81-9603-931362FF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305-E157-4378-B482-DC96204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890-DBC6-4459-97C4-42E1E01A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26B-45EC-4C6C-AC60-D0CE976A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3F70-8AF1-432A-BAA8-EEB78BCF219D}" type="slidenum">
              <a:rPr b="0" lang="et-E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BC65-7116-4D60-A851-EFA2BCBDAB7C}" type="slidenum">
              <a:rPr b="0" lang="et-E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78C8-646B-4647-9845-89958DCF2668}" type="slidenum">
              <a:rPr b="0" lang="et-E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57D0-D1B2-41CF-A913-61873E4D828B}" type="slidenum">
              <a:rPr b="0" lang="et-E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3684-FC14-41A1-ADDA-A61B1D65ABDC}" type="slidenum">
              <a:rPr b="0" lang="et-E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youtube.com/watch?v=alm_tXO4ans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ims.ut.ee/" TargetMode="External"/><Relationship Id="rId3" Type="http://schemas.openxmlformats.org/officeDocument/2006/relationships/hyperlink" Target="mailto:alvo@ut.ee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920880" y="1731960"/>
            <a:ext cx="7186320" cy="1700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Institute of Technology, U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Alvo Aabloo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On-off valves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Mostly pneumatic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Known technological limitations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Video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7" descr="stanford_labonchip.jpg"/>
          <p:cNvPicPr/>
          <p:nvPr/>
        </p:nvPicPr>
        <p:blipFill>
          <a:blip r:embed="rId3"/>
          <a:stretch/>
        </p:blipFill>
        <p:spPr>
          <a:xfrm>
            <a:off x="5286240" y="3571920"/>
            <a:ext cx="242280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Also blender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Charateristics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f2d32"/>
                </a:solidFill>
                <a:latin typeface="Calibri"/>
              </a:rPr>
              <a:t>Pressure up to 1 atm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f2d32"/>
                </a:solidFill>
                <a:latin typeface="Calibri"/>
              </a:rPr>
              <a:t>Actuation amplitude 8% 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f2d32"/>
                </a:solidFill>
                <a:latin typeface="Calibri"/>
              </a:rPr>
              <a:t>Speed 0.1-1Hz...target 10 Hz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2170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Micromachinery 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Microfluidics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7" descr=""/>
          <p:cNvPicPr/>
          <p:nvPr/>
        </p:nvPicPr>
        <p:blipFill>
          <a:blip r:embed="rId1"/>
          <a:stretch/>
        </p:blipFill>
        <p:spPr>
          <a:xfrm>
            <a:off x="920880" y="1920960"/>
            <a:ext cx="7186320" cy="1487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ims.ut.ee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lvo@ut.ee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Times New Roman"/>
                <a:ea typeface="Calibri"/>
              </a:rPr>
              <a:t>E</a:t>
            </a:r>
            <a:r>
              <a:rPr b="0" lang="en-US" sz="3200" spc="-1" strike="noStrike">
                <a:solidFill>
                  <a:srgbClr val="3f2d32"/>
                </a:solidFill>
                <a:latin typeface="Times New Roman"/>
                <a:ea typeface="Calibri"/>
              </a:rPr>
              <a:t>stablished in 2003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Times New Roman"/>
                <a:ea typeface="Calibri"/>
              </a:rPr>
              <a:t>Goals:</a:t>
            </a:r>
            <a:r>
              <a:rPr b="0" lang="en-US" sz="3200" spc="-1" strike="noStrike">
                <a:solidFill>
                  <a:srgbClr val="3f2d32"/>
                </a:solidFill>
                <a:latin typeface="Times New Roman"/>
                <a:ea typeface="Calibri"/>
              </a:rPr>
              <a:t>new </a:t>
            </a:r>
            <a:r>
              <a:rPr b="0" lang="et-EE" sz="3200" spc="-1" strike="noStrike">
                <a:solidFill>
                  <a:srgbClr val="3f2d32"/>
                </a:solidFill>
                <a:latin typeface="Times New Roman"/>
                <a:ea typeface="Calibri"/>
              </a:rPr>
              <a:t>polymeric </a:t>
            </a:r>
            <a:r>
              <a:rPr b="0" lang="en-US" sz="3200" spc="-1" strike="noStrike">
                <a:solidFill>
                  <a:srgbClr val="3f2d32"/>
                </a:solidFill>
                <a:latin typeface="Times New Roman"/>
                <a:ea typeface="Calibri"/>
              </a:rPr>
              <a:t>materials and their control methods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Times New Roman"/>
                <a:ea typeface="Calibri"/>
              </a:rPr>
              <a:t> </a:t>
            </a:r>
            <a:r>
              <a:rPr b="0" lang="et-EE" sz="3200" spc="-1" strike="noStrike">
                <a:solidFill>
                  <a:srgbClr val="3f2d32"/>
                </a:solidFill>
                <a:latin typeface="Times New Roman"/>
                <a:ea typeface="Calibri"/>
              </a:rPr>
              <a:t>Interdisciplinary b</a:t>
            </a:r>
            <a:r>
              <a:rPr b="0" lang="en-US" sz="3200" spc="-1" strike="noStrike">
                <a:solidFill>
                  <a:srgbClr val="3f2d32"/>
                </a:solidFill>
                <a:latin typeface="Times New Roman"/>
                <a:ea typeface="Calibri"/>
              </a:rPr>
              <a:t>orderline of 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f2d32"/>
                </a:solidFill>
                <a:latin typeface="Times New Roman"/>
                <a:ea typeface="Calibri"/>
              </a:rPr>
              <a:t>M</a:t>
            </a:r>
            <a:r>
              <a:rPr b="0" lang="en-US" sz="2800" spc="-1" strike="noStrike">
                <a:solidFill>
                  <a:srgbClr val="3f2d32"/>
                </a:solidFill>
                <a:latin typeface="Times New Roman"/>
                <a:ea typeface="Calibri"/>
              </a:rPr>
              <a:t>aterial science 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2d32"/>
                </a:solidFill>
                <a:latin typeface="Times New Roman"/>
                <a:ea typeface="Calibri"/>
              </a:rPr>
              <a:t>Robotics</a:t>
            </a:r>
            <a:r>
              <a:rPr b="0" lang="et-EE" sz="2800" spc="-1" strike="noStrike">
                <a:solidFill>
                  <a:srgbClr val="3f2d32"/>
                </a:solidFill>
                <a:latin typeface="Times New Roman"/>
                <a:ea typeface="Calibri"/>
              </a:rPr>
              <a:t> (ICT)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74200" cy="1158840"/>
          </a:xfrm>
          <a:prstGeom prst="rect">
            <a:avLst/>
          </a:prstGeom>
          <a:ln w="0">
            <a:noFill/>
          </a:ln>
        </p:spPr>
      </p:pic>
      <p:pic>
        <p:nvPicPr>
          <p:cNvPr id="221" name="Content Placeholder 5" descr="untitled.bmp"/>
          <p:cNvPicPr/>
          <p:nvPr/>
        </p:nvPicPr>
        <p:blipFill>
          <a:blip r:embed="rId2"/>
          <a:stretch/>
        </p:blipFill>
        <p:spPr>
          <a:xfrm>
            <a:off x="857160" y="1600200"/>
            <a:ext cx="7108920" cy="4740120"/>
          </a:xfrm>
          <a:prstGeom prst="rect">
            <a:avLst/>
          </a:prstGeom>
          <a:ln w="0">
            <a:noFill/>
          </a:ln>
        </p:spPr>
      </p:pic>
      <p:sp>
        <p:nvSpPr>
          <p:cNvPr id="2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20840" y="55440"/>
            <a:ext cx="8242200" cy="216396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0E0F-FD87-4C1A-8C19-4799BBB1432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C:\Users\alvo\AppData\Local\Microsoft\Windows\Temporary Internet Files\Content.IE5\JDNGCQZU\MPj04305060000[1].jpg"/>
          <p:cNvPicPr/>
          <p:nvPr/>
        </p:nvPicPr>
        <p:blipFill>
          <a:blip r:embed="rId2"/>
          <a:stretch/>
        </p:blipFill>
        <p:spPr>
          <a:xfrm>
            <a:off x="6500880" y="192888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home\alvo\doc\project\mannekeen\mann_pildimaterjalid\scanner.jpg"/>
          <p:cNvPicPr/>
          <p:nvPr/>
        </p:nvPicPr>
        <p:blipFill>
          <a:blip r:embed="rId3"/>
          <a:stretch/>
        </p:blipFill>
        <p:spPr>
          <a:xfrm>
            <a:off x="928800" y="4000680"/>
            <a:ext cx="2714400" cy="2073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Users\alvo\AppData\Local\Microsoft\Windows\Temporary Internet Files\Content.IE5\05P15F1B\MPj04372110000[1].jpg"/>
          <p:cNvPicPr/>
          <p:nvPr/>
        </p:nvPicPr>
        <p:blipFill>
          <a:blip r:embed="rId4"/>
          <a:stretch/>
        </p:blipFill>
        <p:spPr>
          <a:xfrm>
            <a:off x="4786200" y="3857760"/>
            <a:ext cx="2216160" cy="221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alvo\AppData\Local\Microsoft\Windows\Temporary Internet Files\Content.IE5\JDNGCQZU\MPj04305060000[1].jpg"/>
          <p:cNvPicPr/>
          <p:nvPr/>
        </p:nvPicPr>
        <p:blipFill>
          <a:blip r:embed="rId5"/>
          <a:stretch/>
        </p:blipFill>
        <p:spPr>
          <a:xfrm>
            <a:off x="357120" y="171468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230" name="Right Arrow 10"/>
          <p:cNvSpPr/>
          <p:nvPr/>
        </p:nvSpPr>
        <p:spPr>
          <a:xfrm>
            <a:off x="3714840" y="4786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24400"/>
          </a:solidFill>
          <a:ln w="19440">
            <a:solidFill>
              <a:srgbClr val="8e2f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ight Arrow 11"/>
          <p:cNvSpPr/>
          <p:nvPr/>
        </p:nvSpPr>
        <p:spPr>
          <a:xfrm rot="17923800">
            <a:off x="6458400" y="3516840"/>
            <a:ext cx="979560" cy="48564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c24400"/>
          </a:solidFill>
          <a:ln w="19440">
            <a:solidFill>
              <a:srgbClr val="8e2f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ight Arrow 12"/>
          <p:cNvSpPr/>
          <p:nvPr/>
        </p:nvSpPr>
        <p:spPr>
          <a:xfrm rot="2644200">
            <a:off x="1312560" y="3068640"/>
            <a:ext cx="1009440" cy="485640"/>
          </a:xfrm>
          <a:prstGeom prst="rightArrow">
            <a:avLst>
              <a:gd name="adj1" fmla="val 50000"/>
              <a:gd name="adj2" fmla="val 49828"/>
            </a:avLst>
          </a:prstGeom>
          <a:solidFill>
            <a:srgbClr val="c24400"/>
          </a:solidFill>
          <a:ln w="19440">
            <a:solidFill>
              <a:srgbClr val="8e2f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16" descr="mannequin_small.jpg"/>
          <p:cNvPicPr/>
          <p:nvPr/>
        </p:nvPicPr>
        <p:blipFill>
          <a:blip r:embed="rId6"/>
          <a:stretch/>
        </p:blipFill>
        <p:spPr>
          <a:xfrm>
            <a:off x="4500720" y="3000240"/>
            <a:ext cx="9014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ailor wants to try to make the garmen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f2d32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f2d32"/>
                </a:solidFill>
                <a:latin typeface="Calibri"/>
              </a:rPr>
              <a:t>Tradition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f2d32"/>
                </a:solidFill>
                <a:latin typeface="Calibri"/>
              </a:rPr>
              <a:t>Fabric characteristics vary widely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Alternative technology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f2d32"/>
                </a:solidFill>
                <a:latin typeface="Calibri"/>
              </a:rPr>
              <a:t>Fabric producers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20840" y="55440"/>
            <a:ext cx="8332560" cy="2163960"/>
          </a:xfrm>
          <a:prstGeom prst="rect">
            <a:avLst/>
          </a:prstGeom>
          <a:ln w="0">
            <a:noFill/>
          </a:ln>
        </p:spPr>
      </p:pic>
      <p:pic>
        <p:nvPicPr>
          <p:cNvPr id="239" name="Content Placeholder 5" descr="01.jpg"/>
          <p:cNvPicPr/>
          <p:nvPr/>
        </p:nvPicPr>
        <p:blipFill>
          <a:blip r:embed="rId2"/>
          <a:stretch/>
        </p:blipFill>
        <p:spPr>
          <a:xfrm>
            <a:off x="357120" y="2214720"/>
            <a:ext cx="1701720" cy="226836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6" descr="04_t.jpg"/>
          <p:cNvPicPr/>
          <p:nvPr/>
        </p:nvPicPr>
        <p:blipFill>
          <a:blip r:embed="rId3"/>
          <a:stretch/>
        </p:blipFill>
        <p:spPr>
          <a:xfrm>
            <a:off x="2286000" y="242892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Program Files\Microsoft Office\MEDIA\CAGCAT10\j0205466.wmf"/>
          <p:cNvPicPr/>
          <p:nvPr/>
        </p:nvPicPr>
        <p:blipFill>
          <a:blip r:embed="rId4"/>
          <a:stretch/>
        </p:blipFill>
        <p:spPr>
          <a:xfrm>
            <a:off x="3429000" y="2357280"/>
            <a:ext cx="1092240" cy="1086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Program Files\Microsoft Office\MEDIA\CAGCAT10\j0292020.wmf"/>
          <p:cNvPicPr/>
          <p:nvPr/>
        </p:nvPicPr>
        <p:blipFill>
          <a:blip r:embed="rId5"/>
          <a:stretch/>
        </p:blipFill>
        <p:spPr>
          <a:xfrm>
            <a:off x="2857680" y="4500720"/>
            <a:ext cx="1717560" cy="1630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04.jpg"/>
          <p:cNvPicPr/>
          <p:nvPr/>
        </p:nvPicPr>
        <p:blipFill>
          <a:blip r:embed="rId6"/>
          <a:stretch/>
        </p:blipFill>
        <p:spPr>
          <a:xfrm>
            <a:off x="4714920" y="4764240"/>
            <a:ext cx="1714320" cy="1336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06.jpg"/>
          <p:cNvPicPr/>
          <p:nvPr/>
        </p:nvPicPr>
        <p:blipFill>
          <a:blip r:embed="rId7"/>
          <a:stretch/>
        </p:blipFill>
        <p:spPr>
          <a:xfrm>
            <a:off x="6715080" y="3714840"/>
            <a:ext cx="1928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Mannekeen_0710.wmv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71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Apparel retailers – especially internet apparel eCommerce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Apparel mass manufacturers and made-to-measure manufacturers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Picture recognition and video feed software for 3D conversion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07880" y="-19080"/>
            <a:ext cx="8401320" cy="1738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f2d32"/>
                </a:solidFill>
                <a:latin typeface="Calibri"/>
              </a:rPr>
              <a:t>Microfluidics chip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f2d32"/>
                </a:solidFill>
                <a:latin typeface="Calibri"/>
              </a:rPr>
              <a:t>Lab-in-chip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ffffff"/>
                </a:solidFill>
                <a:latin typeface="Calibri"/>
              </a:rPr>
              <a:t>alvo@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http://www.ims.ut.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5" descr="061016_micro-180.jpg"/>
          <p:cNvPicPr/>
          <p:nvPr/>
        </p:nvPicPr>
        <p:blipFill>
          <a:blip r:embed="rId2"/>
          <a:stretch/>
        </p:blipFill>
        <p:spPr>
          <a:xfrm>
            <a:off x="5084640" y="1714680"/>
            <a:ext cx="1673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5:36:47Z</dcterms:created>
  <dc:creator>Alvo</dc:creator>
  <dc:description/>
  <dc:language>en-US</dc:language>
  <cp:lastModifiedBy>Alvo</cp:lastModifiedBy>
  <dcterms:modified xsi:type="dcterms:W3CDTF">2009-04-29T07:49:29Z</dcterms:modified>
  <cp:revision>8</cp:revision>
  <dc:subject/>
  <dc:title>Intelligent Materials and Systems Lab for ....</dc:title>
</cp:coreProperties>
</file>